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5B0AC-8965-418C-B4E6-71A929AF0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60220-C1CD-4C70-A85B-CA981E447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FFA5C-36C6-445F-8918-0D3FC46A5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11379-E202-45F2-BCDA-75B121BB9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B2230-03EB-4A05-A3A6-C6021D036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2FF09-701F-4CF9-8C65-D344D6C79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32CF2-D600-40D2-847A-C81E80378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B95FD-76D3-4068-B8D1-76F375F2E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5C92D-5C3C-46D1-9E13-8653DCF08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E0815-4CBD-4A90-8B38-D10DCC4F5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ADA90-F8F1-42AC-B0B5-664B1E113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0C96C-C873-4AD1-BA23-83FD1D70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93D9D-A7C4-4601-9C55-9F0CC2595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00BF8-3687-4241-A92B-0C46DF6A9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1392A-8114-435C-AF44-9BCFE82B5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140B8-A74A-4931-B9D6-8C8928726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4FC4A-A0D0-4AD1-9416-A717768E9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7805F1-9D23-42B5-BE1A-556D92ACF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A73825-1E79-4807-A3D2-0429F6053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A04E75-56A8-4B68-927E-FFFB20FEA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3B5524-0100-4CEB-800A-3CC688AD4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2838AF9-A960-4638-A449-AAF4390CA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8D3A-4BED-44E0-8F18-B1CBEEA6E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0FD95E-39E2-4D2E-A8E4-2E2857EF9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681068-910B-449F-8443-C163DCAC9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342962-2EC4-4D7A-B113-792B38D32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57DAEB-AEE6-4393-9BB3-6675F00FB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B9CE25B-906C-4C21-9F5D-D087C19BB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76143C8-B112-4B35-A253-AFBBDF809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5BD2744-706C-4F9B-BA94-129E591FC0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856907-C163-4AAA-98A3-3E8C950A99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3F50E-755C-4748-B9F5-78D473A1F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A306D1-8D77-46E9-AF00-65FB44277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40E50-2886-4D79-A314-87FD2B3D5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B5407-B695-4D1E-B171-A416CC536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8CE43-23B3-451C-898D-2F3CBCEEC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829F3-BD94-4B89-B36C-E5FA3A65A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90346-94DC-4C62-84DA-A444C8AA8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4A695-A10E-4A4B-9B6F-885DA73F4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E8401-00D0-4A94-A106-10AC67211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4E164-5EAB-49DA-ADA9-125ABBA7B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2D14B1-EE7F-43D2-BEB0-B23CCD4E7A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6041C1-5B2F-428D-BDBE-59A910749B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F47D19E-99C9-4366-9882-3E6C445845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C0CC2-D74E-46EA-AAEE-6EDC1D045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D1F58E-C689-4611-B751-AA0C9FBB6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E2C0F2-BD66-4827-A306-CF7B3D88E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45BB5E-4E18-4CEC-B497-CFBD5C51C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B576D1-67E3-449F-B66F-68ABA0A31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5B8FD2-CCA2-4B03-A367-5DF0E2A2B0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56B9D9-0C1D-40A7-A536-9BF798407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612A9D-9790-4EED-B71F-410A756F7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07AF94-B8CC-4095-BBA3-1391F7A9AF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D8C871-932F-4D1C-802C-46789A0F2A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3C8EE06-6F76-45E2-A20D-834335FF32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C673-6783-4877-9E61-91B1E374D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FD782B-01D6-401E-92C3-C3D93520D0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188652D-CD06-40BF-A1DB-51BEEBC78E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38047C0-4661-46FA-ACBF-C94D6CDA7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25B58C-DEF7-4699-96A2-19076817C4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70CA6D5-7F8C-4402-A8A4-6E7752CFC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BE3182-DDF2-4299-9362-B00960992B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376C40-F766-49F1-8396-F4C11C583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A868FB-70FC-4574-9632-291FA0715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5AEE10-402D-4F8B-B32B-B27D1519D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BF7CDE-1AA9-4924-BBC3-8795B6A205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1F924-9169-4389-81DD-1DBB961CF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9DDF1C-8E17-4028-826B-C3220B8A97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BC2A033-362B-4FCA-BD2C-4B81834EBA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6E4F5E7-182A-4AD4-92D4-A649C3A98B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8AA1D9D-BEBD-4CFD-91D8-CFE3FC93FD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88FCE61-33A5-4D7A-B8E6-66443DE132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85E200-AED5-4F58-B295-E34095600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D4FEF2-C336-4126-BB44-195E1F6DBC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3760F2-5D6C-4446-86D7-665FBAB35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11DE775-C93D-4AEC-9FDE-BBE50C18D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AD20ED-CA23-46CB-9061-543D1F855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9219-CFAE-4005-A2E7-E7A1BAB5B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09B7B3-5854-4C62-9D9B-35E4D1A88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EB8CAA-1C23-4CB8-94C3-E29907650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DF7768-2A19-4482-B123-286A42EBFA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107AFAF-4787-477C-A1E7-89698D8DF7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276CA52-99D4-4EC0-BC31-01BF342CC2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575C-DBFB-49BE-868A-9B6A6C5F0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8B93-E776-4AFE-A1D0-2D07ABD2C87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AC13-2644-44CC-88B5-A8D810588F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A060-B5A3-4021-A5F0-B6B76A4CBC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1734-D284-4042-8C17-EADD6718BF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4940-E1E2-43C5-ADA0-F959080788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7C2B-F210-4238-8FDB-B5B42469A0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663A-FD9C-4CE6-841E-9EAF80A58B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POINT OF VIEW &amp; TON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iterary Analysis in </a:t>
            </a:r>
            <a:r>
              <a:rPr b="1" i="1" lang="en-US" sz="1800" spc="-1" strike="noStrike">
                <a:solidFill>
                  <a:srgbClr val="575f6d"/>
                </a:solidFill>
                <a:latin typeface="Century Schoolbook"/>
              </a:rPr>
              <a:t>Black Boy</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ACTICE WITH POV: 20 MINUTES MORE</a:t>
            </a:r>
            <a:endParaRPr b="0" lang="en-US" sz="3000" spc="-1" strike="noStrike">
              <a:solidFill>
                <a:srgbClr val="575f6d"/>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STOP! POV change!</a:t>
            </a: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Imagine that your great-great-great-great-grandchild has picked up what you just wrote. He or she is creating a family history, and wants to write a </a:t>
            </a:r>
            <a:r>
              <a:rPr b="1" lang="en-US" sz="3600" spc="-1" strike="noStrike">
                <a:solidFill>
                  <a:srgbClr val="000000"/>
                </a:solidFill>
                <a:latin typeface="Century Schoolbook"/>
              </a:rPr>
              <a:t>biography</a:t>
            </a:r>
            <a:r>
              <a:rPr b="0" lang="en-US" sz="3600" spc="-1" strike="noStrike">
                <a:solidFill>
                  <a:srgbClr val="000000"/>
                </a:solidFill>
                <a:latin typeface="Century Schoolbook"/>
              </a:rPr>
              <a:t> about you.</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ACTICE WITH POV: 20 MINUTES MORE</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What point of view would the biography be written from?</a:t>
            </a: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What knowledge would this ancestor have that you don’t?</a:t>
            </a: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Write</a:t>
            </a:r>
            <a:r>
              <a:rPr b="0" lang="en-US" sz="3600" spc="-1" strike="noStrike">
                <a:solidFill>
                  <a:srgbClr val="000000"/>
                </a:solidFill>
                <a:latin typeface="Century Schoolbook"/>
              </a:rPr>
              <a:t> the biography, as though you were your ancestor.</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INT OF VIEW: REVIEW</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1</a:t>
            </a:r>
            <a:r>
              <a:rPr b="0" lang="en-US" sz="5400" spc="-1" strike="noStrike" baseline="30000">
                <a:solidFill>
                  <a:srgbClr val="000000"/>
                </a:solidFill>
                <a:latin typeface="Century Schoolbook"/>
              </a:rPr>
              <a:t>st</a:t>
            </a:r>
            <a:r>
              <a:rPr b="0" lang="en-US" sz="5400" spc="-1" strike="noStrike">
                <a:solidFill>
                  <a:srgbClr val="000000"/>
                </a:solidFill>
                <a:latin typeface="Century Schoolbook"/>
              </a:rPr>
              <a:t> Person POV: the narrator is the ‘I’ of the story; told through the eyes of the narrator</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
          <p:cNvSpPr/>
          <p:nvPr/>
        </p:nvSpPr>
        <p:spPr>
          <a:xfrm>
            <a:off x="304920" y="228600"/>
            <a:ext cx="8381880" cy="641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300" spc="-1" strike="noStrike">
                <a:solidFill>
                  <a:srgbClr val="000000"/>
                </a:solidFill>
                <a:latin typeface="Century Schoolbook"/>
              </a:rPr>
              <a:t>He spoke too late. Red circles were eating into the white cloth: then a flare of flames shot out. Startled, I backed away. The fire soared to the ceiling and I trembled with fright. Soon I saw her taut face peering under the edge of the house. She had found me! I held my breath and waited to hear her command me to come to her. Her face went away; no, she had not seen me huddled in the dark nook of the chimney. I tucked my head into my arms and my teeth chattere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The distress I sensed in her voice was as sharp and painful as the lash of a whip on my flesh.</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 The house is on fire. Oh, find my chil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Yes, the house was afire, but I was determined not to leave my place of safety. Finally I saw another face peering under the edge of the house; it was my father's. His eyes must have become accustomed to the shadows, for he was now pointing at me.</a:t>
            </a:r>
            <a:endParaRPr b="0" lang="en-US" sz="2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INT OF VIEW: REVIEW</a:t>
            </a:r>
            <a:endParaRPr b="0" lang="en-US" sz="3000" spc="-1" strike="noStrike">
              <a:solidFill>
                <a:srgbClr val="575f6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3</a:t>
            </a:r>
            <a:r>
              <a:rPr b="0" lang="en-US" sz="4600" spc="-1" strike="noStrike" baseline="30000">
                <a:solidFill>
                  <a:srgbClr val="000000"/>
                </a:solidFill>
                <a:latin typeface="Century Schoolbook"/>
              </a:rPr>
              <a:t>rd</a:t>
            </a:r>
            <a:r>
              <a:rPr b="0" lang="en-US" sz="4600" spc="-1" strike="noStrike">
                <a:solidFill>
                  <a:srgbClr val="000000"/>
                </a:solidFill>
                <a:latin typeface="Century Schoolbook"/>
              </a:rPr>
              <a:t> Person Omnicient POV: the narrator is on the outside looking in to the minds of all characters; frequent use of pronouns ‘he’ and ‘she’ to describe characters</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1"/>
          <p:cNvSpPr/>
          <p:nvPr/>
        </p:nvSpPr>
        <p:spPr>
          <a:xfrm>
            <a:off x="304920" y="228600"/>
            <a:ext cx="8381880" cy="590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100" spc="-1" strike="noStrike">
                <a:solidFill>
                  <a:srgbClr val="000000"/>
                </a:solidFill>
                <a:latin typeface="Century Schoolbook"/>
              </a:rPr>
              <a:t>He spoke too late. Red circles were eating into the white cloth: then a flare of flames shot out. Startled, Richard backed away. The fire soared to the ceiling and he trembled with fright. Soon he saw his mother’s taut face peering under the edge of the house. She had found him! He held his breath and waited to hear her command him to come to her. Her face went away; no, she had not seen him huddled in the dark nook of the chimney. He tucked his head into his arms and his teeth chattere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Richar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The distress in her voice was as sharp as the lash of a whip. She was frantic in her search; was that slightly darker place under the porch her youngest child? No. Oh, if he perishe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Richard! The house is on fire. Oh, find my child!"</a:t>
            </a:r>
            <a:endParaRPr b="0" lang="en-US" sz="21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Yes, the house was afire, but he was determined not to leave his place of safety. Finally Richard saw another face peering under the edge of the house; it was his father's. He had stared into the dark long enough to accustom them to the shadows, and he could now make out the child’s form without more light.</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INT OF VIEW: REVIEW</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3</a:t>
            </a:r>
            <a:r>
              <a:rPr b="0" lang="en-US" sz="4600" spc="-1" strike="noStrike" baseline="30000">
                <a:solidFill>
                  <a:srgbClr val="000000"/>
                </a:solidFill>
                <a:latin typeface="Century Schoolbook"/>
              </a:rPr>
              <a:t>rd</a:t>
            </a:r>
            <a:r>
              <a:rPr b="0" lang="en-US" sz="4600" spc="-1" strike="noStrike">
                <a:solidFill>
                  <a:srgbClr val="000000"/>
                </a:solidFill>
                <a:latin typeface="Century Schoolbook"/>
              </a:rPr>
              <a:t> Person Limited POV: the narrator is on the outside looking in to the mind of one character; frequent use of pronouns ‘he’ and ‘she’ to describe characters</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1"/>
          <p:cNvSpPr/>
          <p:nvPr/>
        </p:nvSpPr>
        <p:spPr>
          <a:xfrm>
            <a:off x="304920" y="228600"/>
            <a:ext cx="8381880" cy="641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300" spc="-1" strike="noStrike">
                <a:solidFill>
                  <a:srgbClr val="000000"/>
                </a:solidFill>
                <a:latin typeface="Century Schoolbook"/>
              </a:rPr>
              <a:t>He spoke too late. Red circles were eating into the white cloth: then a flare of flames shot out. Startled, he backed away. The fire soared to the ceiling and he trembled with fright. Soon he saw her taut face peering under the edge of the house. She had found him! He held his breath and waited to hear her command him to come to her. Her face went away; no, she had not seen him huddled in the dark nook of the chimney. He tucked his head into his arms and his teeth chattere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The distress he sensed in her voice was as sharp and painful as the lash of a whip on his flesh.</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Richard! The house is on fire. Oh, find my child!"</a:t>
            </a:r>
            <a:endParaRPr b="0" lang="en-US" sz="23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	</a:t>
            </a:r>
            <a:r>
              <a:rPr b="0" lang="en-US" sz="2300" spc="-1" strike="noStrike">
                <a:solidFill>
                  <a:srgbClr val="000000"/>
                </a:solidFill>
                <a:latin typeface="Century Schoolbook"/>
              </a:rPr>
              <a:t>Yes, the house was afire, but he was determined not to leave his place of safety. Finally he saw another face peering under the edge of the house; it was his father's. His eyes must have become accustomed to the shadows, for he was now pointing at his son.</a:t>
            </a:r>
            <a:endParaRPr b="0" lang="en-US" sz="2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 MATERIAL: AUTOBIOGRAPHY</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Schoolbook"/>
              </a:rPr>
              <a:t>Autobiography</a:t>
            </a:r>
            <a:r>
              <a:rPr b="0" lang="en-US" sz="5400" spc="-1" strike="noStrike">
                <a:solidFill>
                  <a:srgbClr val="000000"/>
                </a:solidFill>
                <a:latin typeface="Century Schoolbook"/>
              </a:rPr>
              <a:t>: the story of a person’s life, written by the person.</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ACTICE WITH POV: 20 MINUTES</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r task, over the next 20 minutes, expand your life map into a 5 paragraph autobiography. You shoul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rite in 1</a:t>
            </a:r>
            <a:r>
              <a:rPr b="0" lang="en-US" sz="2100" spc="-1" strike="noStrike" baseline="30000">
                <a:solidFill>
                  <a:srgbClr val="000000"/>
                </a:solidFill>
                <a:latin typeface="Century Schoolbook"/>
              </a:rPr>
              <a:t>st</a:t>
            </a:r>
            <a:r>
              <a:rPr b="0" lang="en-US" sz="2100" spc="-1" strike="noStrike">
                <a:solidFill>
                  <a:srgbClr val="000000"/>
                </a:solidFill>
                <a:latin typeface="Century Schoolbook"/>
              </a:rPr>
              <a:t> pers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birth and fami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early childhood (daycare, preschool, elementary schoo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middle school exper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high school exper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friends and activit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details about your strengths and challenges</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01:59:08Z</dcterms:created>
  <dc:creator>Heather N. Lemke</dc:creator>
  <dc:description/>
  <dc:language>en-US</dc:language>
  <cp:lastModifiedBy>Carolynn</cp:lastModifiedBy>
  <dcterms:modified xsi:type="dcterms:W3CDTF">2008-09-23T21:25:29Z</dcterms:modified>
  <cp:revision>6</cp:revision>
  <dc:subject/>
  <dc:title>Point of View &amp; Tone</dc:title>
</cp:coreProperties>
</file>